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A38-AB0A-440C-AF5F-F40AACF15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51B9-0A0B-40AF-90AC-50E7F6BB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60F1-12A6-4D57-B1D9-10D8508CE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A3A4-75E9-4845-91F1-B8F88A56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B9C7-1EE5-419C-BC9F-7B54CBB6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E10B-6EFA-4297-8438-AEE7C74B2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8F0-2B53-4CDC-A3E9-41B3C583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A1F-D888-48C3-A1EF-1D581D1D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9C4-2690-4394-A526-BCA142F1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576-8CD7-4E21-BF70-1470A83A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38D-5E9C-436E-A614-C4AE57DC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E5B-0A94-4F80-A9F6-68F927B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1BD1-2122-4464-BA27-19914BCF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8556-A5B2-4DA7-82BE-6B7E640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4660-7305-45FB-B922-8396BCD3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A7DA-E151-4889-92B9-4F4CFC94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ECC-0CAC-4325-8C47-B40B2C7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17B0-9B0B-4430-AD52-8B91A78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1B6-48A2-4F2F-A78E-B0A7F949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BEB4-EE80-4119-ADBD-D5A3BC9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FEB0-4F4F-45E1-8C9E-5724636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1845-148D-40E1-B3F1-2143ED1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39D7-1CB8-44E4-B400-EB6B68EE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AD9-570A-453B-9885-09E8D845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82C-C89E-4388-A773-D6FE784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C1D-8F2F-4997-BD20-8BA4E5B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B37-4F64-4DE1-8107-C788487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E927-6028-43D8-8A06-724040EF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05F-0E09-45A6-9ABE-C5AAE69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B49-779B-491F-B894-D2248FF6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5F8-A1CB-4D95-B6AF-6ADAC42B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4D36-9F54-465B-A97F-CBBFBEE1B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7C8-A4C2-4E1C-AB83-D0A4B804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plication and Division of Inte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e Rules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ying and dividing signed numbers, the same rules app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ote that this rule is not the same as addition or subtr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plication and Division Ru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ultiplying or dividing signed numb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gns are the same (both positive or both negative) then the final answer 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igns are different, then the final answer is negativ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600200" y="1828800"/>
                <a:ext cx="241452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¸-</m:t>
                        </m:r>
                        <m:r>
                          <m:t xml:space="preserve">3</m:t>
                        </m:r>
                      </m:e>
                      <m:e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·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·-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295280" y="2057400"/>
                <a:ext cx="158436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  <m:e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</m:e>
                      <m:e/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7</m:t>
                        </m:r>
                        <m:r>
                          <m:t xml:space="preserve">·</m:t>
                        </m:r>
                        <m:r>
                          <m:t xml:space="preserve">8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1338120" y="2131920"/>
          <a:ext cx="284184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8120" y="2131920"/>
                    <a:ext cx="28418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8:52:01Z</dcterms:created>
  <dc:creator>PA Department of Education</dc:creator>
  <dc:description/>
  <dc:language>en-US</dc:language>
  <cp:lastModifiedBy>psd</cp:lastModifiedBy>
  <dcterms:modified xsi:type="dcterms:W3CDTF">2012-09-21T12:23:27Z</dcterms:modified>
  <cp:revision>5</cp:revision>
  <dc:subject/>
  <dc:title>Multiplication and Division of Signed Numbers</dc:title>
</cp:coreProperties>
</file>